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Le tour" id="0">
      <p:sldLst>
        <p:sld r:id="rId3"/>
        <p:sld r:id="rId9"/>
        <p:sld r:id="rId12"/>
      </p:sldLst>
    </p:custShow>
    <p:custShow name="Copie de Le tour" id="1">
      <p:sldLst>
        <p:sld r:id="rId3"/>
        <p:sld r:id="rId9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645-80E4-48F1-9B02-A5F59503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014-5AF6-422C-A912-9EAD830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670-04B2-4AF1-BCFB-21E530FD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C3D-EFD5-4E92-9FFF-89811608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BA3-CB25-49D1-A19C-BE713B5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43-4B52-4F8F-9AD9-B1328332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E83-B259-4F6B-BE6A-1E8B5FE9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5C7-EDE8-402F-A245-CCE275F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4B9-19D3-47B5-BACC-552DE19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19C-EDD8-41F6-9E40-F3AA127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43C-3D6F-4A34-B898-D12E5997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652-0841-401D-9371-BAAE5FC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CE9-3595-490E-873A-BE6E974CE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Hetken kuluttua saavut sisälle taikuuden mailmaan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rds2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Kats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Minä otin korttisi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6960" y="27874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Tiesin että valitset juuri sen kortin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Morjens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tulet todistaam harvinaisen tapahtuman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Olet osa illuusiota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ap13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copperfieldin illuusios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ässä yksinkertaisessa ohjelmassa tulet näkemään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että minä, tietokoneesi kautta, pystyn kertomaan mita ajattelet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rds1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31436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ässä on 6 kuvakortti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Ajattele yhtä niistä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Vain ajattele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Älä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“ klikkaa ” sitä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Tulen löytämään 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Ajattele nyt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267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aina valilyöntiä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1000" y="24382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Katso syvälle silmiini. Ajattele kortti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 tunne s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 voi nähdä sin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Mutta voin näyttää valin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Pulliainen, Jarmo</cp:lastModifiedBy>
  <dcterms:modified xsi:type="dcterms:W3CDTF">2002-01-15T11:05:22Z</dcterms:modified>
  <cp:revision>40</cp:revision>
  <dc:subject/>
  <dc:title>DC</dc:title>
</cp:coreProperties>
</file>